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C6C8-2445-4F26-83CF-ECF09958D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3F30-2090-4A22-A31E-52809D6B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F811-A79A-424B-B8E2-17F4E50F1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B872-D9A1-4682-806D-65833941E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DB01-69EE-4E33-B3AF-DCCDE8BB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E2DE-801D-4C90-B40A-62BDF200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67A4-5801-47FE-A1C5-15734775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E71B-0197-4B2C-A2E6-9C49A197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D417-5224-4132-9637-E9330A48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8E63-4A4C-4FC3-B96E-4DC317A3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5585-AB08-496D-B6A2-276CA002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C0F6-5F9B-4A68-BB1A-EDC20812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4492-4B7B-460C-BF99-7EED9DB294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3/37/Miamisburg_jqj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upload.wikimedia.org/wikipedia/commons/a/a8/Emerald_Mound.jp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e/ef/Grave_Creek_Mound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en.wikipedia.org/wiki/Grave_Creek_Mound" TargetMode="External"/><Relationship Id="rId4" Type="http://schemas.openxmlformats.org/officeDocument/2006/relationships/hyperlink" Target="http://upload.wikimedia.org/wikipedia/commons/7/76/Hopewell_mound_city_16.jpg" TargetMode="External"/><Relationship Id="rId5" Type="http://schemas.openxmlformats.org/officeDocument/2006/relationships/image" Target="../media/image9.jpeg"/><Relationship Id="rId6" Type="http://schemas.openxmlformats.org/officeDocument/2006/relationships/hyperlink" Target="http://en.wikipedia.org/wiki/Hopewell_Culture_National_Historical_Park" TargetMode="External"/><Relationship Id="rId7" Type="http://schemas.openxmlformats.org/officeDocument/2006/relationships/image" Target="../media/image10.jpeg"/><Relationship Id="rId8" Type="http://schemas.openxmlformats.org/officeDocument/2006/relationships/hyperlink" Target="http://en.wikipedia.org/wiki/Native_Americans_in_the_United_States" TargetMode="External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amous People Fri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3341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. Mundorf’s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ptember 5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205704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are the Mound Builders famou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tle 4"/>
          <p:cNvSpPr/>
          <p:nvPr/>
        </p:nvSpPr>
        <p:spPr>
          <a:xfrm>
            <a:off x="5335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itle 4"/>
          <p:cNvSpPr/>
          <p:nvPr/>
        </p:nvSpPr>
        <p:spPr>
          <a:xfrm>
            <a:off x="228600" y="3657600"/>
            <a:ext cx="87631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are the Ancient Pueblo famo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itle 4"/>
          <p:cNvSpPr/>
          <p:nvPr/>
        </p:nvSpPr>
        <p:spPr>
          <a:xfrm>
            <a:off x="152280" y="5181480"/>
            <a:ext cx="87631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are the Aztecs famo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day’s Famous Peo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362320" y="2286000"/>
            <a:ext cx="4419360" cy="3657600"/>
          </a:xfrm>
          <a:prstGeom prst="rect">
            <a:avLst/>
          </a:prstGeom>
          <a:solidFill>
            <a:srgbClr val="ccecff">
              <a:alpha val="5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ncient America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ound Build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ncient Puebl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ztec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ringia Land Brid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://www.nps.gov/akso/beringia/journeyofdiscovery(map).jpg"/>
          <p:cNvPicPr/>
          <p:nvPr/>
        </p:nvPicPr>
        <p:blipFill>
          <a:blip r:embed="rId1"/>
          <a:stretch/>
        </p:blipFill>
        <p:spPr>
          <a:xfrm>
            <a:off x="228600" y="990720"/>
            <a:ext cx="3238560" cy="2886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http://www.learnnc.org/lp/media/collections/rla/images/Beringia.jpg"/>
          <p:cNvPicPr/>
          <p:nvPr/>
        </p:nvPicPr>
        <p:blipFill>
          <a:blip r:embed="rId2"/>
          <a:stretch/>
        </p:blipFill>
        <p:spPr>
          <a:xfrm>
            <a:off x="6372360" y="952560"/>
            <a:ext cx="2695320" cy="2705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http://superlinks.com.mx/wp-content/uploads/2008/03/area_beringia.png"/>
          <p:cNvPicPr/>
          <p:nvPr/>
        </p:nvPicPr>
        <p:blipFill>
          <a:blip r:embed="rId3"/>
          <a:stretch/>
        </p:blipFill>
        <p:spPr>
          <a:xfrm>
            <a:off x="3200400" y="3048120"/>
            <a:ext cx="3768840" cy="36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Moun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uil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038480" y="0"/>
            <a:ext cx="5105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Adena, Hopewell, and Mississippians were among the earliest people to create large, complex villages in North America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y built giant mounds, or hills, out of the earth, which they often used to bury their dea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mound-building civilizations began about 3,000 years ago and lasted for about 2,500 year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ome of these mounds still exist today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mound-building civilizations lived in the Ohio River Valley, the lower Mississippi Valley, over most of the Southeast, and as far north as  Wisconsin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Image:Miamisburg jqj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520" y="1752480"/>
            <a:ext cx="3915000" cy="1944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Image:Emerald Mound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4114800"/>
            <a:ext cx="34336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Image:Grave Creek Moun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320" y="76320"/>
            <a:ext cx="5181480" cy="2681280"/>
          </a:xfrm>
          <a:prstGeom prst="rect">
            <a:avLst/>
          </a:prstGeom>
          <a:ln w="0">
            <a:noFill/>
          </a:ln>
        </p:spPr>
      </p:pic>
      <p:sp>
        <p:nvSpPr>
          <p:cNvPr id="57" name="TextBox 7"/>
          <p:cNvSpPr/>
          <p:nvPr/>
        </p:nvSpPr>
        <p:spPr>
          <a:xfrm>
            <a:off x="152280" y="281952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Grave Creek Moun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n West Virgi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Image:Hopewell mound city 16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3124080"/>
            <a:ext cx="4114800" cy="2913120"/>
          </a:xfrm>
          <a:prstGeom prst="rect">
            <a:avLst/>
          </a:prstGeom>
          <a:ln w="0">
            <a:noFill/>
          </a:ln>
        </p:spPr>
      </p:pic>
      <p:sp>
        <p:nvSpPr>
          <p:cNvPr id="59" name="TextBox 8"/>
          <p:cNvSpPr/>
          <p:nvPr/>
        </p:nvSpPr>
        <p:spPr>
          <a:xfrm>
            <a:off x="0" y="609588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pewell mounds from the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Mound City Grou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n Oh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http://www.primaleyecreations.com/Images/serpent.jpg"/>
          <p:cNvPicPr/>
          <p:nvPr/>
        </p:nvPicPr>
        <p:blipFill>
          <a:blip r:embed="rId7"/>
          <a:stretch/>
        </p:blipFill>
        <p:spPr>
          <a:xfrm>
            <a:off x="4648320" y="2133720"/>
            <a:ext cx="4190760" cy="2743200"/>
          </a:xfrm>
          <a:prstGeom prst="rect">
            <a:avLst/>
          </a:prstGeom>
          <a:ln w="0">
            <a:noFill/>
          </a:ln>
        </p:spPr>
      </p:pic>
      <p:sp>
        <p:nvSpPr>
          <p:cNvPr id="61" name="TextBox 10"/>
          <p:cNvSpPr/>
          <p:nvPr/>
        </p:nvSpPr>
        <p:spPr>
          <a:xfrm>
            <a:off x="4648320" y="487692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rpent Mound - an ancient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Native America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eremonial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cien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uebl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352320" y="272880"/>
            <a:ext cx="5791320" cy="612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ived in what is now the Southwest about 2,000 years ago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ueblo is the Spanish word for tow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round the year 1100 , they were building structures, as large as modern apartment buildings, using mud and ston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round 1300, the Ancient Pueblo left their villages. No one knows why. It is possible that lack of rain or wood and warfare with other people caused them to mov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du_map1b.jpg (23496 bytes)"/>
          <p:cNvPicPr/>
          <p:nvPr/>
        </p:nvPicPr>
        <p:blipFill>
          <a:blip r:embed="rId1"/>
          <a:stretch/>
        </p:blipFill>
        <p:spPr>
          <a:xfrm>
            <a:off x="304920" y="1447920"/>
            <a:ext cx="2590560" cy="2525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ttp://content.answers.com/main/content/wp/en-commons/thumb/c/cf/225px-Anasazi-es.svg.png"/>
          <p:cNvPicPr/>
          <p:nvPr/>
        </p:nvPicPr>
        <p:blipFill>
          <a:blip r:embed="rId2"/>
          <a:stretch/>
        </p:blipFill>
        <p:spPr>
          <a:xfrm>
            <a:off x="685800" y="4114800"/>
            <a:ext cx="214308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Image:Mesaverde cliffpalace 20030914.752.jpg"/>
          <p:cNvPicPr/>
          <p:nvPr/>
        </p:nvPicPr>
        <p:blipFill>
          <a:blip r:embed="rId1"/>
          <a:stretch/>
        </p:blipFill>
        <p:spPr>
          <a:xfrm>
            <a:off x="152280" y="152280"/>
            <a:ext cx="5105520" cy="3394080"/>
          </a:xfrm>
          <a:prstGeom prst="rect">
            <a:avLst/>
          </a:prstGeom>
          <a:ln w="0">
            <a:noFill/>
          </a:ln>
        </p:spPr>
      </p:pic>
      <p:sp>
        <p:nvSpPr>
          <p:cNvPr id="70" name="TextBox 7"/>
          <p:cNvSpPr/>
          <p:nvPr/>
        </p:nvSpPr>
        <p:spPr>
          <a:xfrm>
            <a:off x="76320" y="358128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ff Palace, Mesa Verde National P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Image:Canyon de Chelly1.jpg"/>
          <p:cNvPicPr/>
          <p:nvPr/>
        </p:nvPicPr>
        <p:blipFill>
          <a:blip r:embed="rId2"/>
          <a:stretch/>
        </p:blipFill>
        <p:spPr>
          <a:xfrm>
            <a:off x="4267080" y="3541680"/>
            <a:ext cx="4876920" cy="3316320"/>
          </a:xfrm>
          <a:prstGeom prst="rect">
            <a:avLst/>
          </a:prstGeom>
          <a:ln w="0">
            <a:noFill/>
          </a:ln>
        </p:spPr>
      </p:pic>
      <p:sp>
        <p:nvSpPr>
          <p:cNvPr id="72" name="TextBox 9"/>
          <p:cNvSpPr/>
          <p:nvPr/>
        </p:nvSpPr>
        <p:spPr>
          <a:xfrm>
            <a:off x="5410080" y="28954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te House Ruins, Canyon de Chelly National Mon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-1522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Azte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574800" y="272880"/>
            <a:ext cx="5568840" cy="65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Aztecs ruled in Central Mexico for about 200 years, beginning around the year 1300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ir capital city was Tenochtitlan, a city of hundreds of buildings, roads, and a population of 250,000 peopl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Aztecs made their own calendar, and built large temples as part of their relig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t the time the Aztec civilization lived in Central Mexico, groups of American Indians had settled in almost every region of North Americ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http://www.kidspast.com/images/aztec-empire.jpg"/>
          <p:cNvPicPr/>
          <p:nvPr/>
        </p:nvPicPr>
        <p:blipFill>
          <a:blip r:embed="rId1"/>
          <a:stretch/>
        </p:blipFill>
        <p:spPr>
          <a:xfrm>
            <a:off x="0" y="990720"/>
            <a:ext cx="3371760" cy="2771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www.nonduality.com/12742.jpg"/>
          <p:cNvPicPr/>
          <p:nvPr/>
        </p:nvPicPr>
        <p:blipFill>
          <a:blip r:embed="rId2"/>
          <a:stretch/>
        </p:blipFill>
        <p:spPr>
          <a:xfrm>
            <a:off x="0" y="3608280"/>
            <a:ext cx="342900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://www.richard-seaman.com/Travel/Mexico/Teotihuacan/PyramidOfTheMoonFromTheSouthWest.jpg"/>
          <p:cNvPicPr/>
          <p:nvPr/>
        </p:nvPicPr>
        <p:blipFill>
          <a:blip r:embed="rId1"/>
          <a:stretch/>
        </p:blipFill>
        <p:spPr>
          <a:xfrm>
            <a:off x="-304920" y="2514600"/>
            <a:ext cx="5423040" cy="3718080"/>
          </a:xfrm>
          <a:prstGeom prst="rect">
            <a:avLst/>
          </a:prstGeom>
          <a:ln w="0">
            <a:noFill/>
          </a:ln>
        </p:spPr>
      </p:pic>
      <p:sp>
        <p:nvSpPr>
          <p:cNvPr id="82" name="TextBox 5"/>
          <p:cNvSpPr/>
          <p:nvPr/>
        </p:nvSpPr>
        <p:spPr>
          <a:xfrm>
            <a:off x="152280" y="76320"/>
            <a:ext cx="4038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nochtitlan is located about 50km  northeast of Mexico C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http://static.flickr.com/34/65379733_d93ca3bd7a.jpg"/>
          <p:cNvPicPr/>
          <p:nvPr/>
        </p:nvPicPr>
        <p:blipFill>
          <a:blip r:embed="rId2"/>
          <a:stretch/>
        </p:blipFill>
        <p:spPr>
          <a:xfrm>
            <a:off x="4381560" y="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http://www.d.umn.edu/cla/faculty/troufs/anth3618/images/Tenochtitlan2.jpg"/>
          <p:cNvPicPr/>
          <p:nvPr/>
        </p:nvPicPr>
        <p:blipFill>
          <a:blip r:embed="rId3"/>
          <a:stretch/>
        </p:blipFill>
        <p:spPr>
          <a:xfrm>
            <a:off x="4467240" y="3809880"/>
            <a:ext cx="4676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8:30:37Z</dcterms:created>
  <dc:creator>CCPS</dc:creator>
  <dc:description/>
  <dc:language>en-US</dc:language>
  <cp:lastModifiedBy>CCPS</cp:lastModifiedBy>
  <dcterms:modified xsi:type="dcterms:W3CDTF">2008-10-03T12:26:38Z</dcterms:modified>
  <cp:revision>19</cp:revision>
  <dc:subject/>
  <dc:title>Famous People Friday</dc:title>
</cp:coreProperties>
</file>